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jpeg" ContentType="image/jpeg"/>
  <Override PartName="/ppt/media/image52.jpeg" ContentType="image/jpeg"/>
  <Override PartName="/ppt/media/image51.jpeg" ContentType="image/jpeg"/>
  <Override PartName="/ppt/media/image46.png" ContentType="image/png"/>
  <Override PartName="/ppt/media/image45.png" ContentType="image/png"/>
  <Override PartName="/ppt/media/image57.jpeg" ContentType="image/jpeg"/>
  <Override PartName="/ppt/media/image63.png" ContentType="image/png"/>
  <Override PartName="/ppt/media/image43.png" ContentType="image/png"/>
  <Override PartName="/ppt/media/image42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27.png" ContentType="image/png"/>
  <Override PartName="/ppt/media/image18.jpeg" ContentType="image/jpeg"/>
  <Override PartName="/ppt/media/image17.png" ContentType="image/png"/>
  <Override PartName="/ppt/media/image58.png" ContentType="image/png"/>
  <Override PartName="/ppt/media/image6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48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69.jpeg" ContentType="image/jpeg"/>
  <Override PartName="/ppt/media/image41.png" ContentType="image/png"/>
  <Override PartName="/ppt/media/image32.png" ContentType="image/png"/>
  <Override PartName="/ppt/media/image25.jpeg" ContentType="image/jpeg"/>
  <Override PartName="/ppt/media/image49.png" ContentType="image/png"/>
  <Override PartName="/ppt/media/image24.png" ContentType="image/png"/>
  <Override PartName="/ppt/media/image11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65.gif" ContentType="image/gif"/>
  <Override PartName="/ppt/media/image68.png" ContentType="image/png"/>
  <Override PartName="/ppt/media/image62.png" ContentType="image/png"/>
  <Override PartName="/ppt/media/image61.jpeg" ContentType="image/jpeg"/>
  <Override PartName="/ppt/media/image40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13.jpeg" ContentType="image/jpeg"/>
  <Override PartName="/ppt/media/image44.png" ContentType="image/png"/>
  <Override PartName="/ppt/media/image26.jpeg" ContentType="image/jpeg"/>
  <Override PartName="/ppt/media/image5.jpeg" ContentType="image/jpeg"/>
  <Override PartName="/ppt/media/image50.png" ContentType="image/png"/>
  <Override PartName="/ppt/media/image28.png" ContentType="image/png"/>
  <Override PartName="/ppt/media/image38.jpeg" ContentType="image/jpeg"/>
  <Override PartName="/ppt/media/image10.jpeg" ContentType="image/jpeg"/>
  <Override PartName="/ppt/media/image29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31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CDD-9F77-4D3D-A583-63BB7A59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B49-6B57-424E-88A3-EF704149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DA0-B161-4434-BF5F-47349CD1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CC19-B215-4881-B8E6-245FFEB5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8A94-33AC-4261-A95A-3E42EBFB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1720-3A9D-43C1-AD64-B20F20F0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7E68-65DD-42D3-A7A8-B44DEEA7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044F-21AC-46BB-8A77-C7C749BC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94D1-AB9B-4B91-A83D-84EB35BF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54CC-AE0B-4CA3-8B55-B128F082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3DD1-2846-49CF-AC6E-8411365F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868-018A-4AB9-AE58-318C0A01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14BF-249B-4C5C-A28A-A23F724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7D64-8027-468B-8B4D-333FFFE8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6205-3873-4119-9DFE-00D58F72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C6D5-7DC6-4B65-88A8-B7475C18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3429-5902-4383-BBB1-463C11E3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465-B8CA-4F15-BBA1-2E8032BD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D31-A2A6-4710-B96E-200A9E94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855-1CE1-4113-BE60-7B069359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839-7696-4B3D-9CD7-6CF84AFD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24D-FFD2-4E8F-87A9-64FE8E6A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FA1-54F2-49B4-8634-50B0CA3B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DB25-6C1E-4C09-BAF8-69967A79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CBA8-7F21-4D7B-9795-66B62931E0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B51E-698D-46AB-8BE1-B91E59FC14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jpe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971640" y="836640"/>
            <a:ext cx="74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кая Отечественная война</a:t>
            </a:r>
            <a:endParaRPr b="1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348000" y="414972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941 - 1945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2376360" cy="273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tretch/>
        </p:blipFill>
        <p:spPr>
          <a:xfrm>
            <a:off x="3348000" y="2492280"/>
            <a:ext cx="2857680" cy="628920"/>
          </a:xfrm>
          <a:prstGeom prst="rect">
            <a:avLst/>
          </a:prstGeom>
          <a:ln w="0">
            <a:noFill/>
          </a:ln>
        </p:spPr>
      </p:pic>
      <p:pic>
        <p:nvPicPr>
          <p:cNvPr id="102" name="РџРµСЃРЅРё_Р’РѕРµРЅРЅС‹С…_Р›РµС‚__РЎРІСЏС‰РµРЅРЅР°СЏ_Р’РѕР№РЅР°(MusVid.net)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Объект 4" descr=""/>
          <p:cNvPicPr/>
          <p:nvPr/>
        </p:nvPicPr>
        <p:blipFill>
          <a:blip r:embed="rId1"/>
          <a:stretch/>
        </p:blipFill>
        <p:spPr>
          <a:xfrm>
            <a:off x="900000" y="0"/>
            <a:ext cx="7775640" cy="623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23640" y="3933720"/>
            <a:ext cx="5472360" cy="24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, Москва!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ы сердце всей России;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з очей твоих струится свет,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Живы мы, хоть нас свинцом косили, 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Без тебя, Москва,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Нам жизни нет!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5889960" cy="31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Объект 4" descr="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712944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ойна и юность… Война и матери… и вдовы.… Но самое страшное, самое бесчеловечное – это Война и дети. Дети войны…Они дети-войны надрывались у станков, хоронили своих близких, замерзали, умирали с голоду в блокадном Ленинграде</a:t>
            </a:r>
            <a:endParaRPr b="0" lang="en-US" sz="18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519640" cy="194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129708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1332000" y="4724280"/>
            <a:ext cx="2520720" cy="165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5292720" y="4653000"/>
            <a:ext cx="2303640" cy="1644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5"/>
          <a:stretch/>
        </p:blipFill>
        <p:spPr>
          <a:xfrm>
            <a:off x="6443640" y="2133720"/>
            <a:ext cx="170676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Объект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276280"/>
            <a:ext cx="40323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войны – и веет холодом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войны – и пахнет голод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ти войны – и дыбом волосы: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 челках детских…седые полосы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Глаза девчонки семилетней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ак два померкших огонька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 детском личике заметн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Большая, тяжкая тоска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на молчит, о чем ни спросиш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ошутишь с ней – молчит в отв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ак будто ей не семь, не восем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А много, много горьких лет.</a:t>
            </a:r>
            <a:endParaRPr b="0" lang="en-US" sz="18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156360" y="549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2305080" cy="208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339588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3708360" y="476280"/>
            <a:ext cx="194472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Объект 4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684216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5003640" y="2924280"/>
            <a:ext cx="3673800" cy="2520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684216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Дети встретили войну в разном возрасте. Кто-то совсем крохой, кто-то подростком. Кто-то был на пороге юности. Война застала их в столичных городах и маленьких деревеньках, дома и в гостях у бабушек, в загородном лагере, на переднем крае и в глубоком тылу.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971640" y="2995920"/>
            <a:ext cx="374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о школьной скамьи уходили ребята на фронт. Те, кто сражался на фронте, отдавали все свои силы для достижения победы над врагом. Многие из них не вернулись. А дома оставались только женщины и де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5075280" y="5797800"/>
            <a:ext cx="40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Туровская средняя школа. Выпуск 1941год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Все на фрон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Объект 4" descr=""/>
          <p:cNvPicPr/>
          <p:nvPr/>
        </p:nvPicPr>
        <p:blipFill>
          <a:blip r:embed="rId1"/>
          <a:stretch/>
        </p:blipFill>
        <p:spPr>
          <a:xfrm>
            <a:off x="1258920" y="455760"/>
            <a:ext cx="6769080" cy="6379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924360" y="549360"/>
            <a:ext cx="1584360" cy="1944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42560" y="404280"/>
            <a:ext cx="252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 меня и я вернус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Только очень жд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 когда наводят гру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ёлтые дожд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, когда других не жду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Позабыв вче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, когда из дальних м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Писем не придё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, когда уж надо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сем, кто вместе ждё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 меня, и я вернус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е желай доб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сем, кто знает наизу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Что забыть пор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Пусть поверят сын и м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 то, что нет мен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Пусть друзья устанут ж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идя у огн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ыпьют горькое ви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 помин души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. И с ними заод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ыпить не спеш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Жди меня, и я верну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сем смертям назл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то не ждал меня, тот пус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кажет: – Повезл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6156360" y="620640"/>
            <a:ext cx="2286000" cy="1728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6012000" y="5013360"/>
            <a:ext cx="2320920" cy="1368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4"/>
          <a:stretch/>
        </p:blipFill>
        <p:spPr>
          <a:xfrm>
            <a:off x="3851280" y="2852640"/>
            <a:ext cx="1584360" cy="194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"/>
          <p:cNvPicPr/>
          <p:nvPr/>
        </p:nvPicPr>
        <p:blipFill>
          <a:blip r:embed="rId5"/>
          <a:stretch/>
        </p:blipFill>
        <p:spPr>
          <a:xfrm>
            <a:off x="3203640" y="5013360"/>
            <a:ext cx="2609640" cy="1428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6"/>
          <a:stretch/>
        </p:blipFill>
        <p:spPr>
          <a:xfrm>
            <a:off x="6516720" y="2852640"/>
            <a:ext cx="1508040" cy="18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108000" y="250920"/>
            <a:ext cx="8928000" cy="605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Times New Roman"/>
              </a:rPr>
              <a:t>Они, матери и жены, невесты и сестры умели ждать. Ждать, надеяться, любить. И вселять надежду в того, кто на фронте, на передовой. Кто на войне. Но просто ждать и надеяться они не могли. Матери, жены, сестры, невесты – все, кто не на фронте – это есть тыл. Тыл должен работать на фронт: ведь победа ковалась не только на фронте, но и в тылу врага.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3924360" y="2349360"/>
            <a:ext cx="1511280" cy="180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1942920" cy="1297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3"/>
          <a:stretch/>
        </p:blipFill>
        <p:spPr>
          <a:xfrm>
            <a:off x="3851280" y="4869000"/>
            <a:ext cx="2016000" cy="136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4"/>
          <a:stretch/>
        </p:blipFill>
        <p:spPr>
          <a:xfrm>
            <a:off x="6227640" y="2205000"/>
            <a:ext cx="2376720" cy="2116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2571840" cy="158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6"/>
          <a:stretch/>
        </p:blipFill>
        <p:spPr>
          <a:xfrm>
            <a:off x="6300720" y="4724280"/>
            <a:ext cx="2374920" cy="150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ХАТЫНЬ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7" name="Объект 4" descr=""/>
          <p:cNvPicPr/>
          <p:nvPr/>
        </p:nvPicPr>
        <p:blipFill>
          <a:blip r:embed="rId1"/>
          <a:stretch/>
        </p:blipFill>
        <p:spPr>
          <a:xfrm>
            <a:off x="3708360" y="1700280"/>
            <a:ext cx="5327640" cy="3384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0000" y="2057400"/>
            <a:ext cx="29494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тынь — деревня в Белоруссии, уничтоженная 22 марта 1943 года карательными подразделениями вспомогательной охранной полиции из состава украинского коллаборационистского формирования 118-й шуцманшафт батальон за убийство партизанами нескольких немецких военнослужащих. В соответствии с принципом общего коллективного наказания за возможное оказание жителями деревни помощи партизанам все 149 жителей Хатыни были сожжены заживо или расстреля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Объект 4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6062760" cy="460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Объект 1" descr=""/>
          <p:cNvPicPr/>
          <p:nvPr/>
        </p:nvPicPr>
        <p:blipFill>
          <a:blip r:embed="rId1"/>
          <a:stretch/>
        </p:blipFill>
        <p:spPr>
          <a:xfrm>
            <a:off x="917640" y="277920"/>
            <a:ext cx="7765920" cy="5852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380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Да разве об этом расскажеш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 какие ты годы жил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Какая безмерная тяж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На женские плечи легла!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 то утро простился с тоб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Твой муж, или брат, или сы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И ты со своею судьбо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сталась один на один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Ты шла, затаив свое гор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ровым путем трудо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есь фронт, что от моря до мор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Кормила ты хлебом сво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В холодные зимы, в мет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У той у далекой че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олдат согревали шине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Что сшила заботливо 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64000" y="5013360"/>
            <a:ext cx="2267280" cy="1428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4643280" y="2852640"/>
            <a:ext cx="1440000" cy="1860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6516720" y="3068640"/>
            <a:ext cx="189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5003640" y="260280"/>
            <a:ext cx="3600720" cy="223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5"/>
          <a:stretch/>
        </p:blipFill>
        <p:spPr>
          <a:xfrm>
            <a:off x="900000" y="4046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6"/>
          <a:stretch/>
        </p:blipFill>
        <p:spPr>
          <a:xfrm>
            <a:off x="3132000" y="404640"/>
            <a:ext cx="159084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Объект 2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983280" cy="424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14400" y="277920"/>
            <a:ext cx="77724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И, всё-таки наступил в войне переломный момент и началось освобождение оккупированных территорий. Очистив от фашистов территорию нашей страны, наши воины освободили от фашистского ига народы Евро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971640" y="3787920"/>
            <a:ext cx="500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 мы пошли освобождать Европ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олдаты наши в блиндажах, в окопах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 землянках, танках, дотах, дзота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На кораблях и в самолетах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Фашистских оккупантов побежд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До самого Берлина немцев гн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Был взят Берлин, и на рейхста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Был гордо водружен наш фла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5867280" y="3789360"/>
            <a:ext cx="2232000" cy="244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3"/>
          <a:stretch/>
        </p:blipFill>
        <p:spPr>
          <a:xfrm>
            <a:off x="1835280" y="1700280"/>
            <a:ext cx="287964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Объект 2" descr=""/>
          <p:cNvPicPr/>
          <p:nvPr/>
        </p:nvPicPr>
        <p:blipFill>
          <a:blip r:embed="rId1"/>
          <a:stretch/>
        </p:blipFill>
        <p:spPr>
          <a:xfrm>
            <a:off x="1547640" y="765000"/>
            <a:ext cx="64090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Объект 2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7058160" cy="568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900000" y="166716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Победа в войне – это ликование и скорбь. Время их не приглушает. А мы с вами должны эту память о самой страшной войне, которая коснулась каждой семьи, передавать из поколения в поколение. День Победы был, есть и должен оставаться самым святым праздником. Ведь те, кто заплатил за него своей жизнью, дали нам возможность жить сейчас. Мы обязаны помнить об этом всегда. Память павших и не доживших до сегодняшнего дня почтим минутой молчания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3203640" y="43657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755640" y="4581360"/>
            <a:ext cx="2009880" cy="142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542960" cy="1428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4"/>
          <a:stretch/>
        </p:blipFill>
        <p:spPr>
          <a:xfrm>
            <a:off x="6227640" y="4581360"/>
            <a:ext cx="2286000" cy="1428840"/>
          </a:xfrm>
          <a:prstGeom prst="rect">
            <a:avLst/>
          </a:prstGeom>
          <a:ln w="0">
            <a:noFill/>
          </a:ln>
        </p:spPr>
      </p:pic>
      <p:sp>
        <p:nvSpPr>
          <p:cNvPr id="191" name="WordArt 9"/>
          <p:cNvSpPr txBox="1"/>
          <p:nvPr/>
        </p:nvSpPr>
        <p:spPr>
          <a:xfrm>
            <a:off x="1692360" y="260280"/>
            <a:ext cx="496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мним!</a:t>
            </a:r>
            <a:endParaRPr b="1" i="1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randomBar dir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7756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2 июня 1941 года мирная жизнь советских людей была нарушена. Началась Великая Отечественная война.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752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ускай назад история лист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Страницы легендарные св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 память. Через годы пролет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едет опять в походы и бо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456000" y="3643920"/>
            <a:ext cx="56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Вот сорок первый год, конец июн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И люди спать легли спокойно наканун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Но утром уже знала вся стра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Что началась ужасная вой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133720" cy="1428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4427640" y="5157720"/>
            <a:ext cx="2857320" cy="133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16216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419280" y="3357720"/>
            <a:ext cx="5329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Нет!” – заявляем мы войне, всем злым и чёрным силам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Должна трава зелёной быть, а небо синим-синим!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Ты слышишь, друг, звенят ручьи, поют на ветках пт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На замечательной земле нам довелось род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Так пусть она цветёт всегда, пускай шумит са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Пусть люди смотрят на неё влюблёнными глазам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егодня праздник входит в каждый 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И радость к людям с ним приходит след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Мы поздравляем вас с великим дне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Times New Roman"/>
              </a:rPr>
              <a:t>С днем нашей славы!  С Днем Победы!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9"/>
          <p:cNvSpPr txBox="1"/>
          <p:nvPr/>
        </p:nvSpPr>
        <p:spPr>
          <a:xfrm>
            <a:off x="1116000" y="404640"/>
            <a:ext cx="72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 Днём Победы!</a:t>
            </a:r>
            <a:endParaRPr b="1" i="1" lang="en-US" sz="18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4" name="Picture 10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2376720" cy="324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338472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Объект 2" descr=""/>
          <p:cNvPicPr/>
          <p:nvPr/>
        </p:nvPicPr>
        <p:blipFill>
          <a:blip r:embed="rId1"/>
          <a:stretch/>
        </p:blipFill>
        <p:spPr>
          <a:xfrm>
            <a:off x="684360" y="115920"/>
            <a:ext cx="7920000" cy="63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0000" y="1341360"/>
            <a:ext cx="467964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От бескрайней равнины сибирской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До Полесских лесов и болот 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Поднимался народ богатырский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Наш великий, могучий народ!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Выходил он: свободный и правый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Отвечая войной на войну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Постоять за родную державу,</a:t>
            </a:r>
            <a:br>
              <a:rPr sz="2000"/>
            </a:b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     За могучую нашу страну!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2087640" cy="1800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1619280" y="620640"/>
            <a:ext cx="640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ё для фронта!</a:t>
            </a:r>
            <a:endParaRPr b="0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171880" cy="142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3"/>
          <a:stretch/>
        </p:blipFill>
        <p:spPr>
          <a:xfrm>
            <a:off x="1187280" y="4292640"/>
            <a:ext cx="309564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Объект 5" descr=""/>
          <p:cNvPicPr/>
          <p:nvPr/>
        </p:nvPicPr>
        <p:blipFill>
          <a:blip r:embed="rId1"/>
          <a:stretch/>
        </p:blipFill>
        <p:spPr>
          <a:xfrm>
            <a:off x="1042920" y="0"/>
            <a:ext cx="7274160" cy="6381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В ходе войны было несколько битв, которые определили ее исход. Курская, Сталинградская, Ленинградская и, конечно, битва под Москвой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3456000" cy="244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2936880" cy="1900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258920" y="4437000"/>
            <a:ext cx="2305080" cy="1644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4"/>
          <a:stretch/>
        </p:blipFill>
        <p:spPr>
          <a:xfrm>
            <a:off x="5003640" y="4797360"/>
            <a:ext cx="285768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Объект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920" y="333360"/>
            <a:ext cx="5688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И было много страшных битв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 которых враг проклятый был разбит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еликое сражение под Москвой,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 котором мы врагу сказали грозно: “Стой!”</a:t>
            </a:r>
            <a:endParaRPr b="0" lang="en-US" sz="2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508360" y="2204640"/>
            <a:ext cx="308124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од столицей впервые был остановлен вал фашисткой агрессии. Москва не утратила блеска своего даже в труднейшую военную годину благодаря стойкости воинов, возвестивших миру “Велика Россия, а отступать некуда – позади Москва” 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2125800" cy="1440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635280" y="2205000"/>
            <a:ext cx="2133720" cy="142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3"/>
          <a:stretch/>
        </p:blipFill>
        <p:spPr>
          <a:xfrm>
            <a:off x="971640" y="4292640"/>
            <a:ext cx="2095560" cy="1428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4"/>
          <a:stretch/>
        </p:blipFill>
        <p:spPr>
          <a:xfrm>
            <a:off x="3564000" y="4292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3T20:04:45Z</dcterms:created>
  <dc:creator>Танюша</dc:creator>
  <dc:description/>
  <dc:language>en-US</dc:language>
  <cp:lastModifiedBy>user</cp:lastModifiedBy>
  <dcterms:modified xsi:type="dcterms:W3CDTF">2013-04-23T09:07:06Z</dcterms:modified>
  <cp:revision>14</cp:revision>
  <dc:subject/>
  <dc:title>Слайд 1</dc:title>
</cp:coreProperties>
</file>